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E5D0-6685-45F1-90A7-97AF0978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AFBB-7FB0-43D8-8555-2BDB81F8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39AA-76A8-4DF2-87D6-C3B60CA0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BA7-C037-49C4-8439-E773984D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23E4-62C1-4C64-BF9F-AB15F7AC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1A36-D095-4C12-A8DD-29CC343E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2A27-3178-4432-A63F-85091637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02D0-D99D-472B-9A32-F5E26EB2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ECBD-FBEB-43AB-A351-8976B153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0987-2D19-4C97-AABC-5522D6B1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C57F-3FE3-4538-8B7B-0344CEDF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A717-3AFE-4DDF-B762-1B5D7AF7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96E3-32A0-4910-8966-727F4491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2B5A-AB9D-4976-81A9-6A032C54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C9F3-84B4-4E5B-8E44-E16DA8F7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2714-34EF-4218-B08B-46983A2A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C022-9B31-450D-B366-BCC54450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8FCB-2667-4689-865E-B26A9EC7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68F9-90DA-4634-8FF6-1A15C9FD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1605-9A05-4D00-9391-B4E96CCF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4DA7-F562-4A53-892A-1DF13E68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42CF-C2EC-402E-B459-36307B1C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489F-E9B9-4E12-A98C-1E9DA133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C8F9-7065-4B18-A38A-024034DD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3EAD-D78D-4324-81F3-ED1F2582D32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97A8-69C2-4E93-A405-906237E74EF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Meiryo"/>
              </a:rPr>
              <a:t>Waheed bayyoo</a:t>
            </a:r>
            <a:br>
              <a:rPr sz="4800"/>
            </a:b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19814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imes New Roman"/>
              </a:rPr>
              <a:t>Country         :: Pakist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imes New Roman"/>
              </a:rPr>
              <a:t>Me in class    ::</a:t>
            </a: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 9th art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00"/>
                </a:solidFill>
                <a:latin typeface="Times New Roman"/>
              </a:rPr>
              <a:t>My interest</a:t>
            </a: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    :: volyball, indian mus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imes New Roman"/>
              </a:rPr>
              <a:t>My favourite subject</a:t>
            </a: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:: histor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4724280"/>
            <a:ext cx="6858000" cy="1015920"/>
          </a:xfrm>
          <a:prstGeom prst="rect">
            <a:avLst/>
          </a:prstGeom>
          <a:solidFill>
            <a:srgbClr val="ffcc00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roud to be the part of Asia Europe Class Networ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nd thank you for giving me a chance in HisBulPi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akistan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4511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0:55:33Z</dcterms:created>
  <dc:creator>pasha</dc:creator>
  <dc:description/>
  <dc:language>en-US</dc:language>
  <cp:lastModifiedBy>Sumi</cp:lastModifiedBy>
  <dcterms:modified xsi:type="dcterms:W3CDTF">2010-01-26T23:53:04Z</dcterms:modified>
  <cp:revision>18</cp:revision>
  <dc:subject/>
  <dc:title>MR. HAROON </dc:title>
</cp:coreProperties>
</file>